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A52E-B532-4A8A-A823-D48257C0C3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1EE3-DD26-416A-8F12-9AE842703BE9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FAF-A2CE-4848-A753-1077BB19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EFB-30DB-4719-9AB7-EBFD795E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912-315D-459A-B63C-DD395845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067-89AF-4396-BAC9-03984037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A519-99D8-48E8-A7B5-AD8F0741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B93A-F3FD-484E-AB3A-3292A527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E5AD-A037-4274-A483-4E358EB8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FF7A-1827-42CA-B9A9-B6492505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A2D1-E424-4CB9-9EE6-4E3B684E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FC4C-C8E2-4742-82D7-F5BAC692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9241-E284-47D5-9144-7CF9070F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21E-2E11-4FB8-9595-10FDDF7C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84C2-D30E-4350-8ABE-5F054A7D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6979-B9FC-4A1C-85FE-A5C15A23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40C2-A543-4EC5-B1CF-266D3E5F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4EBD-12CB-4205-BFCF-5A9D8D45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C3E7-1120-4AB6-AFD6-6F2E35AB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A850A-DA20-4D31-8302-7B38F20E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84228-94CD-4727-B1B6-9D515541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5D29C-B054-4A85-8098-DC20C470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FBD4-C992-454D-8EBA-D064F028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CB71E-2F0F-4BEF-84C5-A2790B26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7DB-01CE-4C47-92A3-34CB3F5F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DBE86-7D03-4129-A6C5-5F6FA294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190FB-8EAA-48D4-BBD0-FAC2A719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CAA03-71A7-4CF1-83CF-C8DDCF29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EF8F-3CE8-47E1-A69B-6F74F03F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3B04-1AD0-4B21-9412-A11FA186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22DFB-2573-48C4-B9DA-92C5138E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81228-50FD-4CB8-9B49-8937BC34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AD346-4C52-4AC8-88D3-1FE1BC01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1CB98-05B2-4E52-ACEF-C96A9011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33499-D455-45C7-A397-F77569B4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C38-DE15-4ED7-A14F-9121E34B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D6A16-35E5-4905-9054-CFC26DAB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7D6B-07D9-481D-877F-A580510A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6ABC-ACCE-4E8B-96A8-D0FC509E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85BCF-24F4-41D3-8E36-5D9EA1FA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C9491-CDEA-4D4F-9647-D74A0A8A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D3923-493B-4101-AF95-680576EF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D517E-B1E1-497B-AF66-1359EBA0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C7BCB-69D7-4C09-990F-23A93E11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6FCFE-561C-444E-A497-3D8131FE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544EB-0BB5-4817-96DC-A482AA7D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5C73-96DD-4BE2-8C9A-D451C400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A0DBA-3E31-4915-BACB-4A24F922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D616E-8D5B-43A8-B47B-92431C36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4E164-6BAF-4844-A0F8-2414195C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77952-65A2-4671-85C4-467893D1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0CF10-A7A8-4103-A49B-9F63004A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E7A0F-F63F-47B8-9F27-86A77598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F5677-F268-4AA0-BCBB-CE2D4FD6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C9DF5-CC12-4A1F-AA02-9C3B4FA6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5127A-2636-4242-9736-A5DD5392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C5166-C649-4EF1-8E94-EF7F8C1F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3BE-BEE7-43CF-B389-E163B655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236CE-274F-44F0-A5F3-45AA29FC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7FC8A-F025-4084-831F-0B1A70CC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A20F4-09DF-4DA2-A0FD-A609ECDF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85395-1B08-47D4-89EC-D84B9EF2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8813E-B329-46F9-AF0C-43AD553C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26A62-4BCB-4321-A7E1-CC6095E9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EA8AC-1514-4C34-9861-21A4DBDE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238DB-7C2B-425E-83BA-A6882A9D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3E6AD-B945-41B2-BB92-3DF1BC98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DAA0F-7CB0-442D-B099-056CD0B5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D53-486D-4854-BA16-D02CB281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92003-780E-4DCC-A92A-318CBDEB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B8C1C-401D-41A3-8A57-CEDC00D2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E885A-37D4-4888-B981-9D945534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0D3-9DAC-4DE6-8649-983DAB53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937-46D7-43B2-B4B5-5825601F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2D47-D404-4EF5-AA15-E1AAE17AB7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A5CD-9739-48C6-A94B-B8DB48645D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35C5-EDF3-448B-8607-EDC55254D2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FACC-D44D-4FF7-A6E7-B35F9545546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8036-35E0-47CA-9DFD-6B175E9CEF7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F726-D34C-46B4-B9DE-793AA4A24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lib.rus.ec/b/106519/read" TargetMode="External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983.edusite.ru/p123aa1.html" TargetMode="External"/><Relationship Id="rId3" Type="http://schemas.openxmlformats.org/officeDocument/2006/relationships/hyperlink" Target="http://sch983.edusite.ru/p123aa1.html" TargetMode="External"/><Relationship Id="rId4" Type="http://schemas.openxmlformats.org/officeDocument/2006/relationships/hyperlink" Target="http://clck.yandex.ru/" TargetMode="External"/><Relationship Id="rId5" Type="http://schemas.openxmlformats.org/officeDocument/2006/relationships/hyperlink" Target="http://clck.yandex.ru/" TargetMode="External"/><Relationship Id="rId6" Type="http://schemas.openxmlformats.org/officeDocument/2006/relationships/hyperlink" Target="http://clck.yandex.ru/" TargetMode="External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2" descr=""/>
          <p:cNvPicPr/>
          <p:nvPr/>
        </p:nvPicPr>
        <p:blipFill>
          <a:blip r:embed="rId2"/>
          <a:stretch/>
        </p:blipFill>
        <p:spPr>
          <a:xfrm>
            <a:off x="603360" y="298440"/>
            <a:ext cx="7785000" cy="174960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3" descr=""/>
          <p:cNvPicPr/>
          <p:nvPr/>
        </p:nvPicPr>
        <p:blipFill>
          <a:blip r:embed="rId3"/>
          <a:stretch/>
        </p:blipFill>
        <p:spPr>
          <a:xfrm>
            <a:off x="4187880" y="3475080"/>
            <a:ext cx="4687920" cy="18651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3733920" y="6248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Прямоугольник 7" descr=""/>
          <p:cNvPicPr/>
          <p:nvPr/>
        </p:nvPicPr>
        <p:blipFill>
          <a:blip r:embed="rId4"/>
          <a:stretch/>
        </p:blipFill>
        <p:spPr>
          <a:xfrm>
            <a:off x="1219320" y="914400"/>
            <a:ext cx="6778440" cy="1504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560080" cy="1993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222516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ученики 5 класс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Предмет: русский язык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Программа: Разумовская М. М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835200" y="530280"/>
            <a:ext cx="7785000" cy="1743120"/>
          </a:xfrm>
          <a:prstGeom prst="rect">
            <a:avLst/>
          </a:prstGeom>
          <a:ln w="0">
            <a:noFill/>
          </a:ln>
        </p:spPr>
      </p:pic>
      <p:pic>
        <p:nvPicPr>
          <p:cNvPr id="267" name="Rectangle 8" descr=""/>
          <p:cNvPicPr/>
          <p:nvPr/>
        </p:nvPicPr>
        <p:blipFill>
          <a:blip r:embed="rId2"/>
          <a:stretch/>
        </p:blipFill>
        <p:spPr>
          <a:xfrm>
            <a:off x="208080" y="2944800"/>
            <a:ext cx="8796240" cy="19382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5" descr=""/>
          <p:cNvPicPr/>
          <p:nvPr/>
        </p:nvPicPr>
        <p:blipFill>
          <a:blip r:embed="rId3"/>
          <a:stretch/>
        </p:blipFill>
        <p:spPr>
          <a:xfrm>
            <a:off x="225360" y="360360"/>
            <a:ext cx="8620200" cy="193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0" lang="en-US" sz="3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ипы</a:t>
            </a:r>
            <a:r>
              <a:rPr b="0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 речи бывают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Что такое рассуждение, повествование, описание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Как соединяются разные типы речи в одном тексте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42200" cy="1663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Развитие устной и письменной речи учащихс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Формирование знаний о типах реч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9,0,-28)"/>
                                      </p:to>
                                    </p:set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9,0,-28)"/>
                                      </p:to>
                                    </p:se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Научиться правильно говорить и излагать свои мысли на письм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Научиться определять типы речи и их соединение в одном текст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835200" y="158760"/>
            <a:ext cx="8540640" cy="1554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н-газ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л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j0299125"/>
          <p:cNvPicPr/>
          <p:nvPr/>
        </p:nvPicPr>
        <p:blipFill>
          <a:blip r:embed="rId2"/>
          <a:stretch/>
        </p:blipFill>
        <p:spPr>
          <a:xfrm>
            <a:off x="6638760" y="822240"/>
            <a:ext cx="2151360" cy="3487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16130880" cy="14079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1 урок- вводный (1ч.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2 урок- Тип речи- повествование (1ч.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3 урок- Тип речи- рассуждение (1ч.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4 урок- Тип речи- описание (1ч.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5 урок- Представление результатов исследования (1ч.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693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Учебник русского языка для 5 кл., Разумовская М. М., М., 200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Русский язык. Изучение речеведческих понятий, Фешина Н. И., Волгоград,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sch983.edusite.ru/p123aa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lck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sjaz.blogi.by/2009/02/18/tipy-re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21T05:05:1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